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94560" y="1313280"/>
            <a:ext cx="39501720" cy="54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94560" y="7702560"/>
            <a:ext cx="3950172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194560" y="17674920"/>
            <a:ext cx="3950172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94560" y="1313280"/>
            <a:ext cx="39501720" cy="54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94560" y="7702560"/>
            <a:ext cx="1927656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435200" y="7702560"/>
            <a:ext cx="1927656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94560" y="17674920"/>
            <a:ext cx="1927656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22435200" y="17674920"/>
            <a:ext cx="1927656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4560" y="1313280"/>
            <a:ext cx="39501720" cy="54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4560" y="7702560"/>
            <a:ext cx="1271916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50200" y="7702560"/>
            <a:ext cx="1271916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905480" y="7702560"/>
            <a:ext cx="1271916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94560" y="17674920"/>
            <a:ext cx="1271916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5550200" y="17674920"/>
            <a:ext cx="1271916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28905480" y="17674920"/>
            <a:ext cx="1271916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4560" y="1313280"/>
            <a:ext cx="39501720" cy="54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2194560" y="7702560"/>
            <a:ext cx="39501720" cy="19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94560" y="1313280"/>
            <a:ext cx="39501720" cy="54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2194560" y="7702560"/>
            <a:ext cx="39501720" cy="19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94560" y="1313280"/>
            <a:ext cx="39501720" cy="54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194560" y="7702560"/>
            <a:ext cx="19276560" cy="19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22435200" y="7702560"/>
            <a:ext cx="19276560" cy="19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4560" y="1313280"/>
            <a:ext cx="39501720" cy="54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2194560" y="1313280"/>
            <a:ext cx="39501720" cy="254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4560" y="1313280"/>
            <a:ext cx="39501720" cy="54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4560" y="7702560"/>
            <a:ext cx="1927656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200" y="7702560"/>
            <a:ext cx="19276560" cy="19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2194560" y="17674920"/>
            <a:ext cx="1927656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94560" y="1313280"/>
            <a:ext cx="39501720" cy="54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94560" y="7702560"/>
            <a:ext cx="19276560" cy="19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2435200" y="7702560"/>
            <a:ext cx="1927656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435200" y="17674920"/>
            <a:ext cx="1927656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94560" y="1313280"/>
            <a:ext cx="39501720" cy="54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94560" y="7702560"/>
            <a:ext cx="1927656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2435200" y="7702560"/>
            <a:ext cx="1927656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94560" y="17674920"/>
            <a:ext cx="3950172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extBox 1"/>
          <p:cNvSpPr/>
          <p:nvPr/>
        </p:nvSpPr>
        <p:spPr>
          <a:xfrm>
            <a:off x="6480000" y="681120"/>
            <a:ext cx="363571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1425a"/>
                </a:solidFill>
                <a:latin typeface="Calibri"/>
              </a:rPr>
              <a:t>Title he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Box 2"/>
          <p:cNvSpPr/>
          <p:nvPr/>
        </p:nvSpPr>
        <p:spPr>
          <a:xfrm>
            <a:off x="6480000" y="2494080"/>
            <a:ext cx="3631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425a"/>
                </a:solidFill>
                <a:latin typeface="Calibri"/>
              </a:rPr>
              <a:t>Authors and affili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TextBox 9"/>
          <p:cNvSpPr/>
          <p:nvPr/>
        </p:nvSpPr>
        <p:spPr>
          <a:xfrm>
            <a:off x="787320" y="8153280"/>
            <a:ext cx="194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425a"/>
                </a:solidFill>
                <a:latin typeface="Calibri"/>
                <a:ea typeface="Arial Unicode MS"/>
              </a:rPr>
              <a:t>Put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45"/>
          <p:cNvSpPr/>
          <p:nvPr/>
        </p:nvSpPr>
        <p:spPr>
          <a:xfrm>
            <a:off x="22707720" y="8153280"/>
            <a:ext cx="200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425a"/>
                </a:solidFill>
                <a:latin typeface="Calibri"/>
                <a:ea typeface="Arial Unicode MS"/>
              </a:rPr>
              <a:t>Put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Box 61"/>
          <p:cNvSpPr/>
          <p:nvPr/>
        </p:nvSpPr>
        <p:spPr>
          <a:xfrm>
            <a:off x="22707720" y="21793320"/>
            <a:ext cx="200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425a"/>
                </a:solidFill>
                <a:latin typeface="Calibri"/>
                <a:ea typeface="Arial Unicode MS"/>
              </a:rPr>
              <a:t>Put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30"/>
          <p:cNvSpPr/>
          <p:nvPr/>
        </p:nvSpPr>
        <p:spPr>
          <a:xfrm>
            <a:off x="0" y="32288040"/>
            <a:ext cx="28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425a"/>
                </a:solidFill>
                <a:latin typeface="Arial"/>
              </a:rPr>
              <a:t>Contact:  contact@ohdsi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1"/>
          <p:cNvSpPr/>
          <p:nvPr/>
        </p:nvSpPr>
        <p:spPr>
          <a:xfrm>
            <a:off x="523800" y="21793320"/>
            <a:ext cx="198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425a"/>
                </a:solidFill>
                <a:latin typeface="Calibri"/>
                <a:ea typeface="Arial Unicode MS"/>
              </a:rPr>
              <a:t>Put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6"/>
          <p:cNvSpPr/>
          <p:nvPr/>
        </p:nvSpPr>
        <p:spPr>
          <a:xfrm>
            <a:off x="22707720" y="20269080"/>
            <a:ext cx="20088000" cy="879480"/>
          </a:xfrm>
          <a:prstGeom prst="rect">
            <a:avLst/>
          </a:prstGeom>
          <a:gradFill rotWithShape="0">
            <a:gsLst>
              <a:gs pos="0">
                <a:srgbClr val="20425a"/>
              </a:gs>
              <a:gs pos="100000">
                <a:srgbClr val="fccb1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7"/>
          <p:cNvSpPr/>
          <p:nvPr/>
        </p:nvSpPr>
        <p:spPr>
          <a:xfrm>
            <a:off x="787320" y="6927840"/>
            <a:ext cx="19405800" cy="879480"/>
          </a:xfrm>
          <a:prstGeom prst="rect">
            <a:avLst/>
          </a:prstGeom>
          <a:gradFill rotWithShape="0">
            <a:gsLst>
              <a:gs pos="0">
                <a:srgbClr val="20425a"/>
              </a:gs>
              <a:gs pos="100000">
                <a:srgbClr val="fccb1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8"/>
          <p:cNvSpPr/>
          <p:nvPr/>
        </p:nvSpPr>
        <p:spPr>
          <a:xfrm>
            <a:off x="22666320" y="6956280"/>
            <a:ext cx="20129400" cy="876600"/>
          </a:xfrm>
          <a:prstGeom prst="rect">
            <a:avLst/>
          </a:prstGeom>
          <a:gradFill rotWithShape="0">
            <a:gsLst>
              <a:gs pos="0">
                <a:srgbClr val="20425a"/>
              </a:gs>
              <a:gs pos="100000">
                <a:srgbClr val="fccb1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9"/>
          <p:cNvSpPr/>
          <p:nvPr/>
        </p:nvSpPr>
        <p:spPr>
          <a:xfrm>
            <a:off x="538200" y="20269080"/>
            <a:ext cx="19654920" cy="879480"/>
          </a:xfrm>
          <a:prstGeom prst="rect">
            <a:avLst/>
          </a:prstGeom>
          <a:gradFill rotWithShape="0">
            <a:gsLst>
              <a:gs pos="0">
                <a:srgbClr val="20425a"/>
              </a:gs>
              <a:gs pos="100000">
                <a:srgbClr val="fccb1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787320" y="-82440"/>
            <a:ext cx="569268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7:29:38Z</dcterms:created>
  <dc:creator>user</dc:creator>
  <dc:description/>
  <dc:language>en-US</dc:language>
  <cp:lastModifiedBy>Maura Beaton</cp:lastModifiedBy>
  <dcterms:modified xsi:type="dcterms:W3CDTF">2016-04-29T18:06:26Z</dcterms:modified>
  <cp:revision>185</cp:revision>
  <dc:subject/>
  <dc:title>Slide 1</dc:title>
</cp:coreProperties>
</file>